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5EE-07A1-4E4B-B453-7BFF7FA6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28-3B4E-4D73-8620-B65CA5F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89C-4EA4-4315-9AE3-6F5E8E7D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DFF-389C-4BC0-94D7-92BDF334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B86-6F03-4DF4-B2DE-4C069A1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BD8-F383-4D6C-A5D2-DC8BF29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D6C-0CAC-4DD5-9DB9-E05DBC9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E76-4DDE-4E28-8707-8A50A16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191-9014-4F4A-ACA0-FA555F54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FE5-34FA-405C-B644-AC6CB80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72A-DFC4-459D-917E-C16C808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FA3-3FBE-4474-94D2-A89D074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815-2624-4159-9564-1E4092778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185920"/>
            <a:ext cx="3200400" cy="21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35440" y="152280"/>
            <a:ext cx="302256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2841480" cy="426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84680" y="4724280"/>
            <a:ext cx="307332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124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28960" y="6867360"/>
            <a:ext cx="277812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62520" y="4890960"/>
            <a:ext cx="259056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11160" y="6896160"/>
            <a:ext cx="1451160" cy="21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3520" y="4927680"/>
            <a:ext cx="2359080" cy="185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679920" y="380880"/>
            <a:ext cx="317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3200400" cy="2705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6240" y="0"/>
            <a:ext cx="274176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84004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256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1-21T19:40:39Z</dcterms:modified>
  <cp:revision>9</cp:revision>
  <dc:subject/>
  <dc:title>Slide 1</dc:title>
</cp:coreProperties>
</file>